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89.png" ContentType="image/png"/>
  <Override PartName="/ppt/media/image52.png" ContentType="image/png"/>
  <Override PartName="/ppt/media/image59.png" ContentType="image/png"/>
  <Override PartName="/ppt/media/image24.jpeg" ContentType="image/jpeg"/>
  <Override PartName="/ppt/media/image71.png" ContentType="image/png"/>
  <Override PartName="/ppt/media/image27.jpeg" ContentType="image/jpeg"/>
  <Override PartName="/ppt/media/image10.jpeg" ContentType="image/jpeg"/>
  <Override PartName="/ppt/media/image21.jpeg" ContentType="image/jpeg"/>
  <Override PartName="/ppt/media/image65.png" ContentType="image/png"/>
  <Override PartName="/ppt/media/image80.jpeg" ContentType="image/jpeg"/>
  <Override PartName="/ppt/media/image60.png" ContentType="image/png"/>
  <Override PartName="/ppt/media/image62.png" ContentType="image/png"/>
  <Override PartName="/ppt/media/image28.jpeg" ContentType="image/jpeg"/>
  <Override PartName="/ppt/media/image63.png" ContentType="image/png"/>
  <Override PartName="/ppt/media/image64.png" ContentType="image/png"/>
  <Override PartName="/ppt/media/image66.png" ContentType="image/png"/>
  <Override PartName="/ppt/media/image67.png" ContentType="image/png"/>
  <Override PartName="/ppt/media/image77.png" ContentType="image/png"/>
  <Override PartName="/ppt/media/image87.png" ContentType="image/png"/>
  <Override PartName="/ppt/media/image50.png" ContentType="image/png"/>
  <Override PartName="/ppt/media/image86.png" ContentType="image/png"/>
  <Override PartName="/ppt/media/image74.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75.png" ContentType="image/png"/>
  <Override PartName="/ppt/media/image81.jpeg" ContentType="image/jpeg"/>
  <Override PartName="/ppt/media/image22.jpeg" ContentType="image/jpeg"/>
  <Override PartName="/ppt/media/image1.jpeg" ContentType="image/jpeg"/>
  <Override PartName="/ppt/media/image11.png" ContentType="image/png"/>
  <Override PartName="/ppt/media/image48.png" ContentType="image/png"/>
  <Override PartName="/ppt/media/image29.png" ContentType="image/png"/>
  <Override PartName="/ppt/media/image51.wmf" ContentType="image/x-wmf"/>
  <Override PartName="/ppt/media/image90.png" ContentType="image/png"/>
  <Override PartName="/ppt/media/image25.png" ContentType="image/png"/>
  <Override PartName="/ppt/media/image19.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5.jpeg" ContentType="image/jpeg"/>
  <Override PartName="/ppt/media/image61.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media/image9.jpeg" ContentType="image/jpeg"/>
  <Override PartName="/ppt/media/image36.png" ContentType="image/png"/>
  <Override PartName="/ppt/media/image20.png" ContentType="image/png"/>
  <Override PartName="/ppt/media/image5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26DB53-5FF9-4765-83F9-DE00FFCE5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F73CF-EB1F-4335-A13F-FC2EE8BCF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A7350-1DF2-4C8B-9F42-DFE732D06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EDC830-213A-43FE-889F-517AF2559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A27B71-26E1-49A6-9D58-51FCEE906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4331C-845B-4654-BA6E-C12610B3E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AEE5FA-6B3E-4B68-93F0-237B3EDD3A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34D675-64FA-4A54-96F9-7EAB7CB62E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58E8A2-54E3-4BAD-88DF-7181F5C1E3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46AA7B-9296-48B7-9024-B7BA502BFE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98AF1-3339-4687-AAA3-3E80B3CA2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22FB9C-4506-4FAF-9858-63CB1B8AE6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FC06BB-D0F4-4A6F-AC71-3A3E0D8EF4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EAEE21-8CEC-4D05-AE2F-499BE3E2F0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A817EB-474A-4955-9D21-936D1BA351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709F7-7606-45A6-99F4-A174878E8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C70E8-7544-4EE8-9BB6-42A2DAB9A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E0FAC1-65AE-4110-9A00-AF13FD60A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1F63-DBD4-47D2-BEB0-D661A0349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BFA01D-F504-4F4C-A071-9E17417CBB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73DE3F-574E-4C1B-9413-573071F07E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8F4078-7A3B-43DD-BC3E-E8E426E5A4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2F5AD9-014D-4538-BF90-C8068EE325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A4B475-B0E0-4B28-B3EF-B6A593842A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AE37C9-7B4A-4126-A4C2-2040A98771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8B0256-81D0-411B-8E0B-E051D7623B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AFFE56-9E27-4336-8A3F-FCC5D18242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836B13-B61B-46F4-8CD9-7E6A3EA0CB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863EB7-22B3-4CDE-90FC-30A374131D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C54B8-3DB9-4985-93A6-89F8B06F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4C07A3-6F28-4168-BBED-47D6E7D0B1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B3DDC2-5EBB-4694-B879-ABBAB1B4A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5F75FE-2452-4746-BAA1-A2F5F2A82C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39D711-DC6B-41CF-A836-BA17DEEA35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AD2158-046D-4C4E-AA96-F46D1B4796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C95620-69EF-45CB-AAAA-87A595E1CC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E1D269-3C0E-4111-878D-7C106C902A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E5D77E-42E7-4454-BF47-E351B2F79C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6C61D0-F3C2-4F5E-AC8F-CC1B2214FE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1DB184-754F-44DC-AF61-EB99D0C702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395F-1025-460B-99A6-3B16396E6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684EEA-9AC5-4D5C-8377-B9EBC4561B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C8BF36-2ABD-457A-A131-B48545D55B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88BA2F-F09F-49B0-B146-135893C438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254673-D74D-41D7-992C-F9EBB376B3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4F159B-02AF-471B-880B-490D981BEB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4302A0-D649-4568-BF8D-B3028F7251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682B05F-9D90-49A4-BE72-4FA63A4BBB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FFCF1-3817-4842-8419-1F6DC7A4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4573-AB43-4A48-8FE5-62C23294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C995-AA53-4AC8-AD97-8A8A71C0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C879-F6DC-4D38-9E65-B8AD6A82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4A78-ECCA-4B5B-B51E-EADE4F1D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477A-1CDC-4BCE-A751-08382A03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5ABF-D85D-4648-8940-CBAADF8B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1599E-52A1-4E4E-AD01-9E7A1CB1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5D331-E3ED-4FD3-AFE3-C985043D0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AD189-5B6D-4002-928C-A7E5BF7E2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12AC1-77D2-40EB-9051-40A0C1BF1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1434C-3A51-429C-845A-2F2E072C8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3D091-5727-4868-86B2-DBC32D6E0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371D9-8E32-45E9-B9C6-DADBF8B80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DB557-4406-4DC8-8898-3D1E1371E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0BB5E-35EB-4280-AB5B-992CE7C6D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8441-A0D0-4A72-A285-8DE90B05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D3A86-7A30-45E6-B46B-98E18F7CC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701D8-F249-4879-B885-0352E362A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CE4B6-F82D-41EC-A930-0F412E914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26C67-5579-4011-BAD8-6B4C0FE4C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3EF6D-2275-4039-B886-0D5039154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51D15-ECF5-4B9B-8B41-717EF2A80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85769-370A-4B71-872A-3A6F10DE6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94191-2C93-41C1-A14F-BF084D5F4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8EEC0F-0086-40D1-B3C3-2A3F03BDD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0F3D9-2C37-47B9-B73D-0D3387987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B56AC-7524-4545-B374-82745CC26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E070C-F9CD-4F00-A445-8EAE52DE4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A5D88-A410-4FE4-A925-EB3D6EE77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06A10-2902-4772-BCC1-AB6FBD0C9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3454BE-CFDF-4503-9799-B2A9C2040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29516-10BA-4670-B6A7-29ACFAE29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15C804-3CFE-4546-B0AA-CA3750A163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72C10-B5FC-41E0-9821-484AFF987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B7682-6EEA-4C46-BAAE-99C4545B2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83E93-DB6F-4D7D-A0E5-29FB4B1F9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E373B-6686-4293-978B-034B0523E7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F9DA4-CDEE-4DDD-82B4-D76E8FA22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09656-CE74-4069-B754-747C87702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23D46-4854-44E1-9CCE-B0AC69E0E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67FC0D-888A-459A-BB8A-2568A64D1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35100-F3F9-4182-9F28-B6C8C596B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24A81A-0C3A-4EC8-8460-950D4A7CE4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304F44-9DD6-45B1-AF02-3C04E39DEF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177F57-2ADE-4181-A175-AEE5EAC4C6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6944B-5326-4FC6-9A7B-97388D7B2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5459B-71CE-4CBE-BDA5-43D38C030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DD6CF-BE5A-45FE-867C-5AE144398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BF551C-3C35-4A3C-B7F9-07A5F649E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21B76-B22B-4FDD-B1E6-CAFCA1216F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57C8C-A616-41BC-84F9-B84EC615A5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48EB59-8B88-4CD1-8BDF-AC32E1C57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BC700-5619-4D46-A07D-4B6D3A47C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F78A4-0B5E-4A62-BCBD-B8EEB36A4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3DDC3-6CA1-47D1-83EA-A9CB8E8380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1C3037-D175-43FA-9898-A72BE13EA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335D0-702E-49AA-B7D6-9BCF99EDA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B537E-DC40-4254-B21E-DF9B189D0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E16CE-EE40-4F6E-A7D7-9765B95D0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D3DD0-2E56-4EAE-AA63-898452D3B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7E970-F7E3-4A45-9D63-9FA4D45B6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1286D-802A-4777-A135-55798B72F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46561-DB0F-4317-B344-668E17D4C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E6ADD-2B44-402E-AE45-EFA417EE2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131FC-A22C-4CB0-B85A-67F6A836B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B9E81-B250-4886-86D8-BF46297BC7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8D9730-C163-4763-A82F-391ED11D1C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B43AF5-4C37-4FF0-984D-7143FBE5A2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1CC3C6-2192-4E6F-A773-649A10166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83625-46AB-41AA-B500-304D8A3952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1B9B7-DE2D-488C-9B7C-FEF55DCA79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D36DD-F27C-4B94-955E-7AD490D31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603BFA-9EC0-48EC-A0CB-5DE00CD031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A872E-AE56-419C-BF52-35CB9395D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175170-239E-45D7-A305-290E43D41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86DC8-C6A4-4DA7-8690-B5CAD63C8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82D07-123B-4078-B2E5-0C3569675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4408E9-0257-4540-A7B9-207391DCF2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4E5BC8-9B39-4A0C-870A-7959A4AC4F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474FF9-4F92-41F1-8CEA-A2DC48265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1D47B7-B914-4D90-A550-CCCFE1C0E7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D5AB9-3633-4B64-AAD4-C3A939EF88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F507F-D5AE-4BE5-B4CB-001F4D8B52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4881-8031-4D07-975E-EA5CDC4F5AD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4FD4-ECAF-4FC1-88F2-4187AD0522F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424C-99C7-432F-BE3A-0304D593050E}"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8CC9-B588-457D-B85D-1D249A407BB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D2CF-56EC-4810-B6E7-ED936CE71A7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DED9-BEC7-4E05-A13C-B0642AA12FF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6A28-CE27-4B75-93CB-2B862324D36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94AF-D3B7-40A6-8E48-55469F32D07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2522-4FA4-42D0-8FCF-C489FEF97E0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1C86-0696-479D-9C41-DFE9C5D8F945}"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875B-D651-4832-916C-336A438B067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image" Target="../media/image69.png"/><Relationship Id="rId14" Type="http://schemas.openxmlformats.org/officeDocument/2006/relationships/image" Target="../media/image70.png"/><Relationship Id="rId15" Type="http://schemas.openxmlformats.org/officeDocument/2006/relationships/image" Target="../media/image71.png"/><Relationship Id="rId16" Type="http://schemas.openxmlformats.org/officeDocument/2006/relationships/image" Target="../media/image72.png"/><Relationship Id="rId17" Type="http://schemas.openxmlformats.org/officeDocument/2006/relationships/image" Target="../media/image73.png"/><Relationship Id="rId18" Type="http://schemas.openxmlformats.org/officeDocument/2006/relationships/image" Target="../media/image74.png"/><Relationship Id="rId19"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13"/>
          <a:stretch/>
        </p:blipFill>
        <p:spPr>
          <a:xfrm>
            <a:off x="8089920" y="2457360"/>
            <a:ext cx="1041480" cy="419040"/>
          </a:xfrm>
          <a:prstGeom prst="rect">
            <a:avLst/>
          </a:prstGeom>
          <a:ln w="0">
            <a:noFill/>
          </a:ln>
        </p:spPr>
      </p:pic>
      <p:pic>
        <p:nvPicPr>
          <p:cNvPr id="771" name="101 Rectángulo" descr=""/>
          <p:cNvPicPr/>
          <p:nvPr/>
        </p:nvPicPr>
        <p:blipFill>
          <a:blip r:embed="rId14"/>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15"/>
          <a:stretch/>
        </p:blipFill>
        <p:spPr>
          <a:xfrm>
            <a:off x="8174160" y="4456080"/>
            <a:ext cx="1042920" cy="420840"/>
          </a:xfrm>
          <a:prstGeom prst="rect">
            <a:avLst/>
          </a:prstGeom>
          <a:ln w="0">
            <a:noFill/>
          </a:ln>
        </p:spPr>
      </p:pic>
      <p:pic>
        <p:nvPicPr>
          <p:cNvPr id="778" name="112 Rectángulo" descr=""/>
          <p:cNvPicPr/>
          <p:nvPr/>
        </p:nvPicPr>
        <p:blipFill>
          <a:blip r:embed="rId16"/>
          <a:stretch/>
        </p:blipFill>
        <p:spPr>
          <a:xfrm>
            <a:off x="2371680" y="4456080"/>
            <a:ext cx="1041480" cy="420840"/>
          </a:xfrm>
          <a:prstGeom prst="rect">
            <a:avLst/>
          </a:prstGeom>
          <a:ln w="0">
            <a:noFill/>
          </a:ln>
        </p:spPr>
      </p:pic>
      <p:pic>
        <p:nvPicPr>
          <p:cNvPr id="779" name="122 Rectángulo" descr=""/>
          <p:cNvPicPr/>
          <p:nvPr/>
        </p:nvPicPr>
        <p:blipFill>
          <a:blip r:embed="rId17"/>
          <a:stretch/>
        </p:blipFill>
        <p:spPr>
          <a:xfrm>
            <a:off x="7589880" y="5883120"/>
            <a:ext cx="1041480" cy="420840"/>
          </a:xfrm>
          <a:prstGeom prst="rect">
            <a:avLst/>
          </a:prstGeom>
          <a:ln w="0">
            <a:noFill/>
          </a:ln>
        </p:spPr>
      </p:pic>
      <p:pic>
        <p:nvPicPr>
          <p:cNvPr id="780" name="124 Rectángulo" descr=""/>
          <p:cNvPicPr/>
          <p:nvPr/>
        </p:nvPicPr>
        <p:blipFill>
          <a:blip r:embed="rId18"/>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3T13:36:38Z</dcterms:modified>
  <cp:revision>115</cp:revision>
  <dc:subject/>
  <dc:title>Diapositiva 1</dc:title>
</cp:coreProperties>
</file>